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003838" cy="2520315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F16-871E-4002-8DD4-1EF5D138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8560" y="5881320"/>
            <a:ext cx="162050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8560" y="14569560"/>
            <a:ext cx="162050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355-B4F6-4586-BEA3-7A561C54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8560" y="588132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201960" y="588132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8560" y="1456956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201960" y="1456956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A40-E894-4872-95FE-61530CAC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8560" y="5881320"/>
            <a:ext cx="52178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377760" y="5881320"/>
            <a:ext cx="52178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56960" y="5881320"/>
            <a:ext cx="52178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8560" y="14569560"/>
            <a:ext cx="52178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377760" y="14569560"/>
            <a:ext cx="52178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856960" y="14569560"/>
            <a:ext cx="52178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595-98FB-48FF-B8C0-2B0B96A2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8560" y="5881320"/>
            <a:ext cx="16205040" cy="166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174"/>
              </a:spcBef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A1D-27C9-4614-AC44-1B7BB8F4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8560" y="5881320"/>
            <a:ext cx="16205040" cy="166338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F4AD-2CD5-404F-A991-F1D205BF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8560" y="5881320"/>
            <a:ext cx="7907760" cy="166338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201960" y="5881320"/>
            <a:ext cx="7907760" cy="166338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A34A-EBD7-4477-A5E4-9801F954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1AB-21C1-44CD-B77D-C9BB922E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8560" y="1009800"/>
            <a:ext cx="16205040" cy="194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174"/>
              </a:spcBef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3C7-0761-40E5-BB59-6207CBBC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8560" y="588132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201960" y="5881320"/>
            <a:ext cx="7907760" cy="166338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8560" y="1456956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2C6-449B-4F5E-886A-8A0D43DB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8560" y="5881320"/>
            <a:ext cx="7907760" cy="166338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201960" y="588132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201960" y="1456956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399-17BA-42D9-9904-72E9829A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8560" y="588132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201960" y="5881320"/>
            <a:ext cx="790776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8560" y="14569560"/>
            <a:ext cx="16205040" cy="793404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indent="0" algn="r" rtl="1">
              <a:spcBef>
                <a:spcPts val="2174"/>
              </a:spcBef>
              <a:buNone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05D-8154-4AEC-A360-3D6B9169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8560" y="1009800"/>
            <a:ext cx="16205040" cy="420048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8560" y="5881320"/>
            <a:ext cx="16205040" cy="166338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t">
            <a:normAutofit/>
          </a:bodyPr>
          <a:p>
            <a:pPr marL="923760" indent="-923760" algn="r" rtl="1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lvl="1" marL="2001960" indent="-768600" algn="r" rtl="1">
              <a:spcBef>
                <a:spcPts val="2174"/>
              </a:spcBef>
              <a:buClr>
                <a:srgbClr val="000000"/>
              </a:buClr>
              <a:buFont typeface="Arial"/>
              <a:buChar char="–"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lvl="2" marL="3083040" indent="-614520" algn="r" rtl="1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lvl="3" marL="4316400" indent="-614520" algn="r" rtl="1">
              <a:spcBef>
                <a:spcPts val="2174"/>
              </a:spcBef>
              <a:buClr>
                <a:srgbClr val="000000"/>
              </a:buClr>
              <a:buFont typeface="Arial"/>
              <a:buChar char="–"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lvl="4" marL="5549760" indent="-614160" algn="r" rtl="1">
              <a:spcBef>
                <a:spcPts val="2174"/>
              </a:spcBef>
              <a:buClr>
                <a:srgbClr val="000000"/>
              </a:buClr>
              <a:buFont typeface="Arial"/>
              <a:buChar char="»"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lvl="5" marL="5549760" indent="-614160" algn="r" rtl="1">
              <a:spcBef>
                <a:spcPts val="2174"/>
              </a:spcBef>
              <a:buClr>
                <a:srgbClr val="000000"/>
              </a:buClr>
              <a:buFont typeface="Arial"/>
              <a:buChar char="»"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lvl="6" marL="5549760" indent="-614160" algn="r" rtl="1">
              <a:spcBef>
                <a:spcPts val="2174"/>
              </a:spcBef>
              <a:buClr>
                <a:srgbClr val="000000"/>
              </a:buClr>
              <a:buFont typeface="Arial"/>
              <a:buChar char="»"/>
              <a:tabLst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899520" y="23358240"/>
            <a:ext cx="4203720" cy="13446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  <a:defRPr b="0" lang="fa-IR" sz="3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fa-IR" sz="3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49880" y="23358240"/>
            <a:ext cx="5702400" cy="13446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p>
            <a:pPr indent="0" algn="r" rtl="1"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8200" y="23358240"/>
            <a:ext cx="4203720" cy="1344600"/>
          </a:xfrm>
          <a:prstGeom prst="rect">
            <a:avLst/>
          </a:prstGeom>
          <a:noFill/>
          <a:ln w="0">
            <a:noFill/>
          </a:ln>
        </p:spPr>
        <p:txBody>
          <a:bodyPr lIns="246960" rIns="246960" tIns="123480" bIns="1234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  <a:defRPr b="0" lang="fa-IR" sz="3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fld id="{D82EFDF8-EBA8-490F-88D0-0F8FC06C887E}" type="slidenum">
              <a:rPr b="0" lang="fa-IR" sz="3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1600" y="378000"/>
            <a:ext cx="16859160" cy="2722320"/>
          </a:xfrm>
          <a:prstGeom prst="rect">
            <a:avLst/>
          </a:prstGeom>
          <a:noFill/>
          <a:ln w="76320">
            <a:solidFill>
              <a:srgbClr val="0070c0"/>
            </a:solidFill>
            <a:miter/>
          </a:ln>
        </p:spPr>
        <p:txBody>
          <a:bodyPr lIns="246960" rIns="246960" tIns="123480" bIns="12348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2463840"/>
                <a:tab algn="l" pos="4927680"/>
                <a:tab algn="l" pos="7391520"/>
                <a:tab algn="l" pos="9855360"/>
              </a:tabLst>
            </a:pPr>
            <a:r>
              <a:rPr b="0" lang="fa-IR" sz="3900" spc="-1" strike="noStrike">
                <a:solidFill>
                  <a:srgbClr val="000000"/>
                </a:solidFill>
                <a:latin typeface="Calibri"/>
                <a:cs typeface="B Titr"/>
              </a:rPr>
              <a:t>نخستین مسابقه پوستر دانشجو معلمان دانشگاه فرهنگیان </a:t>
            </a:r>
            <a:br>
              <a:rPr sz="3100"/>
            </a:br>
            <a:r>
              <a:rPr b="0" lang="fa-IR" sz="3100" spc="-1" strike="noStrike">
                <a:solidFill>
                  <a:srgbClr val="000000"/>
                </a:solidFill>
                <a:latin typeface="Calibri"/>
                <a:ea typeface="B Titr"/>
              </a:rPr>
              <a:t> 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  <a:cs typeface="B Titr"/>
              </a:rPr>
              <a:t>هفته پژوهش 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  <a:ea typeface="B Titr"/>
              </a:rPr>
              <a:t>1394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68920" y="5568840"/>
            <a:ext cx="8099640" cy="73137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lIns="246960" rIns="246960" tIns="123480" bIns="123480" anchor="t">
            <a:noAutofit/>
          </a:bodyPr>
          <a:p>
            <a:pPr indent="0" algn="r" rtl="1">
              <a:spcBef>
                <a:spcPts val="774"/>
              </a:spcBef>
              <a:buNone/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3100" spc="-1" strike="noStrike">
                <a:solidFill>
                  <a:srgbClr val="898989"/>
                </a:solidFill>
                <a:latin typeface="Calibri"/>
                <a:cs typeface="B Badr"/>
              </a:rPr>
              <a:t>چکیده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561960" y="3319560"/>
            <a:ext cx="16806960" cy="21096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6960" rIns="246960" tIns="123480" bIns="123480" anchor="t">
            <a:no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Arial"/>
                <a:cs typeface="B Titr"/>
              </a:rPr>
              <a:t>عنوان مقاله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524"/>
              </a:spcBef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Arial"/>
                <a:cs typeface="B Titr"/>
              </a:rPr>
              <a:t>نویسنده اول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Titr"/>
              </a:rPr>
              <a:t>1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cs typeface="B Titr"/>
              </a:rPr>
              <a:t>، نویسنده دوم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Titr"/>
              </a:rPr>
              <a:t>2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cs typeface="B Titr"/>
              </a:rPr>
              <a:t>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Titr"/>
              </a:rPr>
              <a:t>1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Titr"/>
              </a:rPr>
              <a:t>- .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2100" spc="-1" strike="noStrike">
                <a:solidFill>
                  <a:srgbClr val="898989"/>
                </a:solidFill>
                <a:latin typeface="Calibri"/>
                <a:ea typeface="B Titr"/>
              </a:rPr>
              <a:t>2</a:t>
            </a:r>
            <a:r>
              <a:rPr b="0" lang="fa-IR" sz="2100" spc="-1" strike="noStrike">
                <a:solidFill>
                  <a:srgbClr val="898989"/>
                </a:solidFill>
                <a:latin typeface="Calibri"/>
                <a:ea typeface="B Titr"/>
              </a:rPr>
              <a:t>-...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9269280" y="12988800"/>
            <a:ext cx="8099640" cy="67852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6960" rIns="246960" tIns="123480" bIns="123480" anchor="t">
            <a:noAutofit/>
          </a:bodyPr>
          <a:p>
            <a:pPr algn="r" rtl="1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2100" spc="-1" strike="noStrike">
                <a:solidFill>
                  <a:srgbClr val="898989"/>
                </a:solidFill>
                <a:latin typeface="Calibri"/>
                <a:cs typeface="B Titr"/>
              </a:rPr>
              <a:t>مقدمه و اهداف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9269280" y="19915200"/>
            <a:ext cx="8099640" cy="45226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6960" rIns="246960" tIns="123480" bIns="123480" anchor="t">
            <a:noAutofit/>
          </a:bodyPr>
          <a:p>
            <a:pPr algn="r" rtl="1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2100" spc="-1" strike="noStrike">
                <a:solidFill>
                  <a:srgbClr val="898989"/>
                </a:solidFill>
                <a:latin typeface="Calibri"/>
                <a:cs typeface="B Titr"/>
              </a:rPr>
              <a:t>روش‌ها و ابزا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561960" y="5568840"/>
            <a:ext cx="8572680" cy="142052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6960" rIns="246960" tIns="123480" bIns="123480" anchor="t">
            <a:noAutofit/>
          </a:bodyPr>
          <a:p>
            <a:pPr algn="r" rtl="1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2700" spc="-1" strike="noStrike">
                <a:solidFill>
                  <a:srgbClr val="898989"/>
                </a:solidFill>
                <a:latin typeface="Calibri"/>
                <a:cs typeface="B Titr"/>
              </a:rPr>
              <a:t>نتایج و بحث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ubtitle 2"/>
          <p:cNvSpPr/>
          <p:nvPr/>
        </p:nvSpPr>
        <p:spPr>
          <a:xfrm>
            <a:off x="561960" y="19915200"/>
            <a:ext cx="8572680" cy="45007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46960" rIns="246960" tIns="123480" bIns="123480" anchor="t">
            <a:noAutofit/>
          </a:bodyPr>
          <a:p>
            <a:pPr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fa-IR" sz="4800" spc="-1" strike="noStrike">
                <a:solidFill>
                  <a:srgbClr val="898989"/>
                </a:solidFill>
                <a:latin typeface="Calibri"/>
                <a:cs typeface="B Titr"/>
              </a:rPr>
              <a:t>مناب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2467080"/>
                <a:tab algn="l" pos="4933800"/>
                <a:tab algn="l" pos="7400880"/>
                <a:tab algn="l" pos="9867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 1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:\Users\Hezardastan\Desktop\بررسی\آرم.png"/>
          <p:cNvPicPr/>
          <p:nvPr/>
        </p:nvPicPr>
        <p:blipFill>
          <a:blip r:embed="rId1"/>
          <a:stretch/>
        </p:blipFill>
        <p:spPr>
          <a:xfrm>
            <a:off x="15162120" y="506520"/>
            <a:ext cx="1679760" cy="224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C:\Users\Hezardastan\Desktop\پژوهش.jpg"/>
          <p:cNvPicPr/>
          <p:nvPr/>
        </p:nvPicPr>
        <p:blipFill>
          <a:blip r:embed="rId2"/>
          <a:stretch/>
        </p:blipFill>
        <p:spPr>
          <a:xfrm>
            <a:off x="1068480" y="647640"/>
            <a:ext cx="2441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4:01:46Z</dcterms:created>
  <dc:creator>شهرداری شیراز-گروه پژوهش</dc:creator>
  <dc:description/>
  <dc:language>en-US</dc:language>
  <cp:lastModifiedBy>Yazdani</cp:lastModifiedBy>
  <dcterms:modified xsi:type="dcterms:W3CDTF">2015-12-04T07:51:17Z</dcterms:modified>
  <cp:revision>83</cp:revision>
  <dc:subject/>
  <dc:title>فورمت ارائه پوستر جهت همایش ملی</dc:title>
</cp:coreProperties>
</file>